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C84-F540-438F-9660-C540A36D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B75-7B60-46F9-B5E3-64062D42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810-F868-421F-95D9-E0E48BD5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DD1-0B0E-4273-A724-9EE9E184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1477-1EF5-4835-A0B8-3287BE3D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5587-8E8E-459C-9E08-E1A31689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E84E-D308-40E1-951A-5D8AD2FA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CB53-EE6B-43DD-8A27-CE78D679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3B24-A45B-440B-A2B6-7627A641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65CF-A062-46F2-BFBC-4FB9CEB1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E4C2-4C79-4CB8-8AEB-76B973AC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494-CC5F-4341-B20B-0A28967B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0383-8569-42DD-81A9-FBB13D7D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8B48-2AC2-4750-B592-4D6A82C0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F08F-D04B-4355-ADCD-7D9B5501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3193-7497-4526-A99F-71B08E8D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F92D-57E5-4969-890B-CE70D869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73F-4B24-4895-986C-7096E24F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1A0-BCEC-4906-972F-DB3BC31F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140-646C-4D25-9A30-3D7909B4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EF3-6350-48BD-A8F7-E22E7AF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039-EB2B-4A61-8EFA-5FDFA8FB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A03-7AC7-4F87-83B0-86AC84C1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F68-9950-40DC-83F5-A8955C65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F688-550F-48C9-B145-442A56BB8EC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A456-5134-460F-A08F-DDB9F65E343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een Light"/>
              </a:rPr>
              <a:t>Lets Get Rocked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o you wanna get ROCKED?!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icture of every single group</a:t>
            </a:r>
            <a:r>
              <a:rPr b="0" lang="en-U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33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 Small Cap"/>
              </a:rPr>
              <a:t>Def Leppard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Blue Highway"/>
              </a:rPr>
              <a:t>Motley Crue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lba"/>
              </a:rPr>
              <a:t>AC/DC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Credit Valley"/>
              </a:rPr>
              <a:t>Warrant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Ligurino Condensed"/>
              </a:rPr>
              <a:t>Boston</a:t>
            </a:r>
            <a:r>
              <a:rPr b="0" lang="en-US" sz="6000" spc="-1" strike="noStrike">
                <a:solidFill>
                  <a:srgbClr val="003366"/>
                </a:solidFill>
                <a:latin typeface="Ligurino Condensed"/>
              </a:rPr>
              <a:t>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Hurry Up"/>
              </a:rPr>
              <a:t>Twisted Sister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Baveuse"/>
              </a:rPr>
              <a:t>Guns&amp;Roses</a:t>
            </a:r>
            <a:r>
              <a:rPr b="0" lang="en-US" sz="6600" spc="-1" strike="noStrike">
                <a:solidFill>
                  <a:srgbClr val="003366"/>
                </a:solidFill>
                <a:latin typeface="Poornut"/>
              </a:rPr>
              <a:t> 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Biondi"/>
              </a:rPr>
              <a:t>Metallica</a:t>
            </a:r>
            <a:r>
              <a:rPr b="0" lang="en-US" sz="6000" spc="-1" strike="noStrike">
                <a:solidFill>
                  <a:srgbClr val="003366"/>
                </a:solidFill>
                <a:latin typeface="Sybil Green"/>
              </a:rPr>
              <a:t>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 fac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 picture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2:35:22Z</dcterms:created>
  <dc:creator>SamL</dc:creator>
  <dc:description/>
  <dc:language>en-US</dc:language>
  <cp:lastModifiedBy>SamL</cp:lastModifiedBy>
  <dcterms:modified xsi:type="dcterms:W3CDTF">2009-10-14T03:09:01Z</dcterms:modified>
  <cp:revision>1</cp:revision>
  <dc:subject/>
  <dc:title>Lets Get Rocked </dc:title>
</cp:coreProperties>
</file>